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91B-0577-4EAA-B769-86380DCF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99D-4471-43E2-81FC-2D604166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E02B-FADE-4536-B64A-27592B8A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C9E-DA6E-4E96-940E-526696275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9AA1-DF8B-40BC-BB2C-D201C235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F55-5401-4BAE-8DBA-40FB66A6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0501-76D7-4453-9819-E63F8076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6CC3-91EC-45A0-BF27-9E3A5C131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12C8-D47D-4C0E-B3C8-F90EC63D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9F8C-8D24-4AF1-B080-64E6E4F9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B34-80D8-4F5B-A0D0-849ADEDD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6F1-CF17-4FF0-A6C0-E8ABB6EF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CEE9-F464-4D36-A404-F9A777D51926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Rubric.doc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should society deal with lawbreaker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Assessment: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fore You Begi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terest Invento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rainstorming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MI Char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r/Group Confer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ile Work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earch Law Co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re/ Contrast Elements of Law Codes: Pros and Con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list for Preparing PowerPoin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ubric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acher/Group Confere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fter Project Is Completed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earch Rubric – Grad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werPoint Rubric – Graded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werPoint Presentation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rgument whether your law code would apply to a modern inst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JazzTextExtended"/>
                <a:ea typeface="JazzTextExtended"/>
              </a:rPr>
              <a:t></a:t>
            </a:r>
            <a:endParaRPr b="0" lang="en-US" sz="6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4" name="Picture 4" descr="MCj02908850000[1]"/>
          <p:cNvPicPr/>
          <p:nvPr/>
        </p:nvPicPr>
        <p:blipFill>
          <a:blip r:embed="rId1"/>
          <a:stretch/>
        </p:blipFill>
        <p:spPr>
          <a:xfrm>
            <a:off x="1447920" y="1450800"/>
            <a:ext cx="594360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urlz MT"/>
              </a:rPr>
              <a:t>Unit Ques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are common elements of legal systems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does a given legal system affect the people living under it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How have early legal systems acted as precedents to legal systems today?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urlz MT"/>
              </a:rPr>
              <a:t>Content Quest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What is The Code of Hammurabi?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What are The Ten Commandments?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What is Legalism?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What are The Twelve Tables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nd pictur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Requirements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You will development a PowerPoint presentation to take a stand on how successful your assigned law system was in dealing with lawbreakers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Monotype Corsiva"/>
              </a:rPr>
              <a:t>This PowerPoint will support an argument/debate you will have in class.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Rubric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2:39:13Z</dcterms:created>
  <dc:creator>Valued Gateway Client</dc:creator>
  <dc:description/>
  <dc:language>en-US</dc:language>
  <cp:lastModifiedBy>Valued Gateway Client</cp:lastModifiedBy>
  <dcterms:modified xsi:type="dcterms:W3CDTF">2009-10-21T21:44:56Z</dcterms:modified>
  <cp:revision>14</cp:revision>
  <dc:subject/>
  <dc:title>How should society deal with lawbreakers?</dc:title>
</cp:coreProperties>
</file>